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C57-068B-451D-9C67-646964DA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155-0806-40A9-A5FA-0F51AE13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8447D-1FD0-400B-9D01-853FE80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C4DC2-8A29-45E7-8048-412C22C5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A19AD-22B4-4555-97F1-420820A4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C493C-9037-4B9C-B116-7C2F913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69DA9-2E4A-4E2C-8C68-E304B57B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F8F86-E581-4939-909C-311194C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B915A-6CD8-41DF-ACE8-08DBC1CA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BA0EF-8779-4AE2-8559-D91FA319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6ADE5-5467-428C-9416-21FC9B28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5E75C-60D4-434E-A136-64D121D1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8E7-236E-4AD3-82E7-4E6DA099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F4CAE-0D2C-4A47-A65C-55076E45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EA8A8-360E-4F8F-9C35-B412F58F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BDD9F-50A8-46EA-BEC1-D31B8689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D357F-A046-4D97-B091-B44CE949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8E270-6845-48E3-A498-DA32E73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2AF57-9136-47D7-A4FE-7659491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E3FDA-6469-4A4D-8BB9-278458C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D9F28-6ED5-4068-9E84-4C94D4CE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462D7-3F65-49A2-A85A-EDC768A0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9290C-F3A2-43CB-8C99-B8603D5C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A84-70B7-4A98-B54C-9D2FAA02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BB730-2E27-432D-97D1-98B85E56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1CBED-4F48-47A6-9E0D-7EFC8350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57D2A-D086-4075-ADB1-0C34B868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94A64-8F73-483F-A5A8-9C210470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9D40B-2D5A-4874-B45C-99592478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06AC1-F8D7-45A6-A9C8-EC841642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A26A5-9826-4EC0-A297-1F88CC2A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C7D38-264E-49E5-BC63-5FCADCF0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64DD0-7ED5-451C-AF40-E5731D57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9BE1F-5CC3-471C-BE7C-FF5E40F4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1E45-7047-4D76-806C-E3FCB4E9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4DB1A-6037-453D-A619-C318E0F7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1FED6-DEA0-4C47-95D5-7A9A1FED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45825-4D63-4763-9DFB-B8EA2E15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13B44-88BF-4124-B480-45744D6B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0F715-CFDE-43FE-9959-FFC0F99C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9070C-38DD-4F8D-AFE7-554D312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D09C0-0605-427D-AFAB-693986A8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A7BAA-E03E-4E00-897B-B7CDBE80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721AC-348F-4D41-85EE-60748B6D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E00F4-3B16-48A7-BAEB-156E7FE0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F6F-9E21-4547-98E4-4B54718C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416AA-F3C4-4AD2-9181-671A7B33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AD591-17A8-4DE0-A0BA-CADC9BA0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6FFCB-CC9B-41E3-8989-AEE4F0F6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68CC5-7F19-4BAC-9D6D-61968772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EE658-468E-48B9-92E7-47E84CD4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23AE6-1375-43D8-BCE9-B1803CDD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273BC-3F8F-45F3-A63B-FD3D086A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9AFC7-CA91-47DB-9851-80AAC463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D7CA9-F0CF-48A2-B5F8-DFE73011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8FFF3-28D0-4709-B67F-86637C74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3311-8405-46BB-A261-23804A4A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7D24D-6253-4AE7-82EA-522CE66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A21E4-DE42-46D7-B2B5-0E879C5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6282E-23D0-46FC-B7A6-E0110F2F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2C093-75F4-4631-A927-B2176EE8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1E354-3D3B-4B16-B586-A028EB12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B40B2-8011-4B0E-9CB4-E499613A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5EB46-C11C-4205-94B2-F7AE7786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6F0F9-5E73-464A-A5FE-8E302AB6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3812F-72CA-45CB-80E2-B890EF40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484F8-6078-43BD-808C-3A476A56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D08E-1A40-446D-8258-E7938065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B33FA-98A1-4B0F-85C0-087C1623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7CA7C-6173-4306-813C-811F46FD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65878-16FB-42D0-AB3E-9F3064EE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22B82-7C83-48E9-887A-70D2A61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9AE82-CAFE-4684-BEC2-1739E6B1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E8A08-9B58-4D6F-95A2-74FDE42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DB8BC-1E67-4257-A068-E9D97783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1911F-4EB3-45DA-8D1D-09923D2E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A42C2-792C-4812-A827-FB23BF50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9E6C3-9C4B-4A02-A5E3-C3889E0E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91AA-34B7-483C-8D8D-2AC49371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06AE5-A1C0-40FB-B159-64F43F32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3DC39-4FD2-4044-8085-A4AE8E5D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E01E3-2DF9-4922-B298-20D6DE10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9544A-9590-4968-883B-8A31296A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A5174-E005-42A3-919B-5793101E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88E40-1BD2-442B-BDA5-A4E92E6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E25AC-1551-4218-86B8-F7F4A2C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84C68-3432-4461-9564-E085AE66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2DBC0-9839-46E3-AFC1-CF0EFCA3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B3E82-5CF2-42C4-9DB5-2F85717E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9034-C416-4C55-A774-A2164627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FC35B-824A-4C52-B113-BE034D74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5C183-F72C-40B8-93F1-174A4834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0409F-03EC-41C4-BB1F-50E1F6B7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2A600-3FCE-4867-B593-014FE2D5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407B5-D9D8-4005-B2DC-3B0FA3AC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8AF82-D819-42C9-9D6E-70E3CE15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A95EB-9F06-4C0E-8030-B872C5CB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9A0A0-9E85-4B04-817B-A6750C8D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88A4E-5EAC-45A0-98E9-36BF55EC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E8B0E-C6F5-49F7-8EC6-84F6D26D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1949-7E80-4FCE-B20E-351D4EA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1032A-4C28-4EA9-AA5A-AAEA1A7F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17FC5-65C0-4543-BA16-F0E15416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B2440-30E3-40E6-9084-B9ED2A6F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73174-0BA7-4B7F-B298-C8D21635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43FDA-DF8C-48D1-8376-5A1A5B6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4FA90-1FAC-486F-837B-A9BC26CB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992859-A325-40F8-AE33-4926F2EA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60A4F-84C8-4ACC-9CFF-91ABF939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FC9B0-6772-4FAE-9948-BEA92B05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87153-A029-43A7-A908-AC2158A7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76B-6DBD-464E-881A-3B20ABBE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9279-DBD9-48AE-913D-4881EA25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D353C-EF01-4B1D-BEF9-C6EFB599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B14A4-C624-4B80-9B95-4330638A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622BC4-A2C1-4933-BD09-8490DEB1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83CE5-1C30-4FCC-B816-532A7E4C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287E4-1A21-4686-B4DA-98D4ED71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ECBFE-1CB9-469F-A913-8FDD2A59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B086A-9746-4C22-ADF3-14DD296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06647-0E6C-4825-B979-1FCC297D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B07C4-5E93-4A33-BF09-F74BF103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ED4B05-BE2E-45FA-8D37-90D6E4F7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6F01-26A0-4EA0-A0F8-33726EA6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8EE9E-71B1-4AC5-BE7D-7E67732D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1312D-197D-4FC2-A4A3-54C5B36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F632A-0F1C-46C4-BF74-7CFFD36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69389D-F1D8-4779-A816-D14ACEE5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DE873-E55C-4DC7-A564-DA98D3FA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16C3E-E18C-4C5E-AD99-79CAD68F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2FE06-794C-433A-AE00-0D9D9681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742E1-150E-410C-B72A-647B85D9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23996-A4FE-41E5-AECE-C136B5D8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060E0-B8DE-48F6-A7FF-2AF99309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39D-5518-4BEA-9D46-52C8D043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529AE-8491-460A-925A-82FE7083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D4BE9-8283-4F7A-A084-7294820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1844D8-12B0-4C63-A50D-05AFE09F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7EB76C-1DC6-4B2A-B00A-433DB3A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0B025B-8C14-483C-BFDE-BC04F88A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3DD0C-449F-4E05-9D72-0F3FAA0F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DDB3B-224B-45DF-A094-178D45C8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F49A99-BD5D-4340-A476-EC123ECB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99138-6ABD-4830-B2B6-59AABEC7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8D454-3233-4B33-9950-94E43D3A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3386-E01C-4344-AE71-7E7FF914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0E5BC9-900C-4B02-BB32-86889D1D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D43ED6-0B59-4FB5-849A-32FBD689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92E42-9E21-4E04-B1C8-0C2A876A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31341-411F-4EB2-AA3E-B6E7FA26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DDF56-7509-4D0C-9D33-AFFD9A6B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C42B1-ED23-4155-9A8A-5261204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2FF920-196D-4E0F-8B95-7104025C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03831D-37C7-4C3B-8A74-3D5B319D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4D09D-A5D5-4012-BF57-B0225BC7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A4DAB3-01DD-41D7-AA02-09163E23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7597-FBCB-4F9A-A3DD-AAB18A90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51CCD-56B8-4F18-B0BC-0F075FBA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86A2B0-A4AE-4854-B438-40570680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9244B-2053-4C69-8170-A79CACA5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1EAF22-5D8A-4D5A-8A20-C31BEBC3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DCE69B-3330-44EA-AF7F-2B6F1298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BC27A5-CBDC-4483-B6A4-ECE53C30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0BCE75-1FA0-4379-A2C0-36E85B16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287D70-B0D7-4344-98FB-D5387F78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4B12C-A161-453E-B611-A1DB4EB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607312-255F-45D4-927D-90BFF329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0516-15C4-4C76-92F3-AD5CCA28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6DCBB-0B94-43EB-94F6-472FCC55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B29A1-3D6C-4FA8-AD1D-CE660D66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319EF7-271F-4E7F-90DA-F768307F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044D37-659E-4D06-B359-38C560B2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CAD545-D5E8-474E-9489-762C6697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AD30A-1237-4F64-BCA2-ECF63B8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8FC0AC-BE69-464E-8C59-EA498813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0DACE-C74D-49D4-BB66-BD5769BB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4AC524-8D91-4EAE-B3DF-EFDC16C9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F7A63E-4780-4728-B3D6-9C406B6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4C06-BBFA-4B74-A7E8-139C1186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AAEAA-DD21-4159-A989-7C2832BE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31B140-DB14-4B46-B04F-FE058CA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11988D-D98E-4018-9628-42344F5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A85A50-AB86-4591-AA5A-48BE8242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7718CE-834C-4EAB-8F43-E1A81745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38F7F5-DCB7-40BC-8CB6-019E8612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A2F33C-964F-4F94-BD5E-517A0028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3BD521-5FA9-4F38-9533-13DF02BD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C4DC71-5EF8-4195-B676-9FD9DF3F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FAC3F8-6F7F-46A2-A375-798E28CC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336A-632B-4C7A-BAF8-04FDFB55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CB5E3B-670B-4611-9E75-CEB4E98C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9588C-713B-4420-8869-030855F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484407-ACA6-4B4C-86B5-3773DA7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049B1A-0C56-4CDA-A34A-74B7098C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E05411-A3B2-4889-9766-BCA63EA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6D4BA0-DC4C-4AD4-970C-F7521B78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BE08CE-EC77-400D-8F95-3674306C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205C-BB44-48BF-80DE-525D73F0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0D34-227C-4911-AC66-81A08CAE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74F-E00A-43AC-8BD5-27CBC773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285E-4490-43D6-9BB0-56BF70EA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E91B-425F-43D9-B437-40FA56B3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065D-F1A3-4825-8604-CFF90239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BECA-36FC-497E-8F6E-1B4FCC7A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F291-7CC9-4B59-B49F-AF49616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6BF2-54FE-4EB1-B9F4-CE221112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261C-A81F-4D14-9ABE-3FD9C47F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80C0-A758-4157-8D8F-E9DCF757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C632F-BECC-44BC-A53D-2E29DA03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8009-39FE-4FB0-A416-A097FC49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7BD-8D7B-4AF0-A69E-57D4B88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99AC-479D-4074-9C83-FDE19B7D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D8F0-82A1-43B9-83F2-89015E30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3587-084C-4AB9-BF2F-C8B690A0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980C-A797-442E-9AF7-55AD597A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61B8-9F37-4065-804B-AF10D774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B59C-4EF5-4BA2-B97D-D4248766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05A1-395A-411A-82B7-856BC51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7DD5-8F77-46C4-B20C-6F37A1FC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5FA2-8F25-4566-8937-D29160D7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BFCCF-5E9F-4F5D-BFD7-E8529800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89D-035D-413D-B342-14377295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9D8E4-A365-4C0F-A8F3-4B113BE5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BCBEA-B4E4-4C79-AAE1-1FD9A4D4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2318C-04FD-4223-9E0A-9ABC85E5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E787-92A0-457A-9C15-01FBEB9C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E275-7B28-406E-9031-ECAB0CD3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82C3-D9A8-48D3-9AE8-81BEDB05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831E-4D1F-43F7-98E2-A0065124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7A1BB-1AAA-49E6-A788-3E1F2FE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1CFB-EB06-486D-B09C-3897C757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3DD7-9F99-48F0-82FF-EA94D8C4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7D7-CC03-4E2D-A5DD-0DA96C50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5316-A6A2-4FC6-AA9F-40C526A5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87077-EFA8-4D86-9400-BF8B4F99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075A0-7166-4907-B7B4-48C211A7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37D88-452B-4A8C-8DF0-CE94DCC0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EFD67-8240-4B24-87CF-1A72DDB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7B8F9-6C75-430E-9BB6-1B97C895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2120B-C32B-4ED3-90B3-B4A83D4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2D975-2A29-4D4D-A3A0-B115085E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3A099-5290-4380-83E1-1E8324D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0064A-1429-4C43-A1FD-2AEC999A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FD1-8553-4CCA-A188-8BF6642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AF80-702F-43FC-8191-0E0C7F3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AC703-0718-4B77-9244-984D1E98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3C1B2-DFC9-45C1-958D-268E435A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C3646-7E7C-4D8C-AA8E-A60956DD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8A849-5E10-4B32-8F71-DF40D2AD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462D2-FB07-4AD8-8E06-28EC8D61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937C2-BC67-45F4-A4B7-F199F357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75688-C358-455E-B2AF-C5023547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6410D-7C7A-4D72-989E-F9A606F8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77272-5E38-45E1-908A-BBC4CFD8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DE5-07D8-45DD-9F85-5FA72E2E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5B07-C68D-465A-9BF3-3FB2EEFF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5C63F-6AF0-4ED4-BF06-FB83C93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E7430-2F4A-443C-A5D3-DFC564E1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02A2-E210-4A0D-B80F-1AB1AE9A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51B51-FE7B-4E79-BC98-CC450F49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DB82C-D2EC-4274-8BA1-E019C3A4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4783F-E7DD-4B64-A5EF-40536D95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0A904-9F42-4FEA-BC82-D31B5A3D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F5018-9965-47F3-B8DC-C6C3468F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5CB28-2A48-4D50-8818-13931A11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4F7-6E1C-4113-9788-B3CB5C0D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6526-B233-4761-8E4A-86D12C23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EA742-BF2E-40F1-B265-48F3CD4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F9CE1-93FD-445E-9DB8-2337539D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76BC3-DB88-4F4F-B464-7EECEC7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120E5-50A6-439D-90C7-25A1F462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6B8E9-1CF0-4A0A-93AD-D22A6B53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4D4FA-2FCF-4FA9-99C1-B2BFEC01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92ED1-EE21-4D12-AF98-E0AE7266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4C7D3-33B2-4532-AAC0-754BAF87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206FB-0C2F-4457-ADAE-9C07227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F8A4-D78C-428D-8A24-8F7457067D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306E-49B3-4444-B6CE-BCC9D859E6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2057-4452-4E4F-8D9E-FECEFEA1E3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B838-483D-4EDE-B60F-8413D8741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23EC-0979-4769-BC7E-3A5B53ADE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CF6-73DD-4089-8844-694545B79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8F9-83E0-49A5-947B-F86FE0CC90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AA3E-399A-4ED1-B6EB-943DB9715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CC85-FDF0-492B-BC3D-67DB935EF9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8E8A-502C-478D-AA58-F76E09620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A80C-F6E1-4483-BC63-414D1132A9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35ED-7B71-4F96-BD0A-42C118AE5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03B8-B180-4040-ADAB-71DDD904EE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D690-4779-4B65-B38B-26CCA63FB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4B03-D05C-414B-AF53-187087A4D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45EA-0C44-49B6-8571-8378BBA205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0BE4-27E9-483D-BBCF-90F9D74980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96F8-B48E-4868-90F9-6600454293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4DFD-FCA2-48E8-AFE8-C32BC81F14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E24A-A9EC-47D3-87F2-96C7396E5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093D-2565-48F2-9E3D-62170EBDC6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D3BB-15D2-4590-9A43-178A38F808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AFCD-7C71-42BD-A23B-BC57975DF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6A14-C615-4246-897E-246724E69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163E-B9EF-4089-A861-34A1AB598B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4DA0-1F01-4E47-A85E-0CA903A3D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6A1E-5CB3-4C39-A26A-EE9D3A62E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033C-03EE-4138-ADDD-C715DDF2E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F2D2-326A-4367-9972-7D17106508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552E-CBDD-4E48-B4E4-3DE1D9AE6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3B64-0B3F-4841-ABAC-732691D89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3E17-47E4-40D5-920D-FD477F511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E0EB-7848-4432-8548-55C4CE2079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D8F2-709B-4CBC-B066-27C95F1071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E0BA-7D2E-486D-B5E1-8435A4D8F5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5F63-807B-4964-B0C0-2848FADA26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2956-2C71-445D-B178-57CF90807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09CC-43C7-418B-9D89-0D9ADCE0A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FFCD-FDB6-4FB7-9FF2-81B906F38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5FD8-EF28-4B7D-8FC6-A2D2BF226C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96AB-2EEE-46C9-A859-3FA44ABC5E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16D0-A6CF-4778-BB87-C159CC994A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0600" y="2878200"/>
            <a:ext cx="8902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571680" y="957240"/>
            <a:ext cx="8124480" cy="566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54738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332000" y="4005360"/>
            <a:ext cx="547344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332000" y="4724280"/>
            <a:ext cx="547344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332000" y="5445000"/>
            <a:ext cx="54734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258920" y="6093000"/>
            <a:ext cx="547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76120" y="1428840"/>
            <a:ext cx="8591760" cy="4000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258920" y="486900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586480" y="430704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586480" y="4883040"/>
            <a:ext cx="345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85640" y="2257560"/>
            <a:ext cx="8172720" cy="23428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684360" y="364500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146560" y="3068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219640" y="3645000"/>
            <a:ext cx="345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90440" y="992160"/>
            <a:ext cx="8763120" cy="5295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900000" y="5013360"/>
            <a:ext cx="583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684360" y="5661000"/>
            <a:ext cx="583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62080" y="766800"/>
            <a:ext cx="8619840" cy="53244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971640" y="286704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971640" y="472428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597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85760" y="847800"/>
            <a:ext cx="8772480" cy="5162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971640" y="302580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187280" y="4292640"/>
            <a:ext cx="590580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87280" y="4941720"/>
            <a:ext cx="59058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611280" y="5516640"/>
            <a:ext cx="590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204840" y="1600200"/>
            <a:ext cx="87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47560" y="952560"/>
            <a:ext cx="8048880" cy="4952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611280" y="1065240"/>
            <a:ext cx="7993080" cy="1139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48258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258920" y="3068640"/>
            <a:ext cx="48258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116000" y="3789360"/>
            <a:ext cx="482616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324000" y="4479840"/>
            <a:ext cx="828036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95120" y="824040"/>
            <a:ext cx="8753760" cy="5810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900000" y="326880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755640" y="458136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55640" y="530064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84360" y="5978520"/>
            <a:ext cx="626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7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